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A42-3896-4B90-8957-BF79D76A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4A7-B082-4A87-9344-D1DA2FED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804-A315-4F63-BD55-CAA745FD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197-DA52-44C2-A29A-898958BE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58A-EA5E-49B1-994D-0795253F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C4A-1A76-4C1D-B74A-14749F9C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404-2121-4CA5-8C35-A9093C60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9B9-A0F1-474F-96BA-1C16E0AF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41F-6BD6-4C6A-A071-C718D463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D1C-6173-46E6-A026-584264A2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56F-6075-457E-8F0D-FA8E4327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063-2780-480D-B8F5-91EDC408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DEBC-DF97-44A7-AC40-CE087D885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9:05:05Z</dcterms:created>
  <dc:creator>abeason</dc:creator>
  <dc:description/>
  <dc:language>en-US</dc:language>
  <cp:lastModifiedBy>abeason</cp:lastModifiedBy>
  <dcterms:modified xsi:type="dcterms:W3CDTF">2008-11-18T19:05:08Z</dcterms:modified>
  <cp:revision>1</cp:revision>
  <dc:subject/>
  <dc:title>Slide 1</dc:title>
</cp:coreProperties>
</file>